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F87-5B7C-49E4-9F61-EFFEF5F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B52-FCCF-4DF9-9AD3-2DDB288E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3C9-2983-4479-A490-8ED8F1F8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CD6-896E-43AF-95A5-8DD22D96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19C0-5157-4878-AF1C-EB549524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9B8A-B3A1-452B-B458-1A6B6074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424A-E182-4C1F-B723-7D74825A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B886-83EC-4909-A129-6B69AFF0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10B0-74D9-4E8E-823F-244850E1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A924-DCDA-4824-ACF3-3C3A07E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76F-849D-49DD-BE35-756EA07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2DA-DA60-4F1A-97B0-CE41438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58C-DD3C-4280-B135-1F4E9DC8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21E-9CE3-482E-92DA-9396710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AE6-BB2C-45D2-8005-816E12B1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4D5-3D54-4960-8F02-A522653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B6AB-BD9D-4CBD-AA26-C232032F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5A2-3AD7-4EDA-B305-CBE0EAE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723-12B4-4DDB-9DE5-7FF55EE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EBD-B88E-4919-B09E-5B1878A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6F2-3ECA-4983-B970-A824408C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005-B971-46A2-851E-EE82E39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4D3-590C-48DF-B420-2302B91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93C-D74A-43F4-8C41-49CD3D2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d7e6c5"/>
              </a:gs>
              <a:gs pos="50000">
                <a:srgbClr val="fefefe"/>
              </a:gs>
              <a:gs pos="100000">
                <a:srgbClr val="d7e6c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d7e6c5"/>
              </a:gs>
              <a:gs pos="50000">
                <a:srgbClr val="fefefe"/>
              </a:gs>
              <a:gs pos="100000">
                <a:srgbClr val="d7e6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8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DD9A-58EA-410A-A8E0-DC37710CD500}" type="slidenum">
              <a:rPr b="0" lang="en-US" sz="1400" spc="-1" strike="noStrike">
                <a:solidFill>
                  <a:srgbClr val="2f8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d7e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7aba05"/>
                  </a:gs>
                  <a:gs pos="100000">
                    <a:srgbClr val="c5e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2f8b20"/>
                  </a:gs>
                  <a:gs pos="100000">
                    <a:srgbClr val="92c2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c5e093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d7e6c5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7ab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fa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2f8b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8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C50-5AC0-4268-B213-4443A1AEAEF8}" type="slidenum">
              <a:rPr b="0" lang="en-US" sz="1400" spc="-1" strike="noStrike">
                <a:solidFill>
                  <a:srgbClr val="2f8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d7e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7aba05"/>
                  </a:gs>
                  <a:gs pos="100000">
                    <a:srgbClr val="c5e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2f8b20"/>
                  </a:gs>
                  <a:gs pos="100000">
                    <a:srgbClr val="92c2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c5e093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d7e6c5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7aba0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faf18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2f8b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-457200" y="-762120"/>
            <a:ext cx="10287000" cy="792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Option Macro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374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-5400" y="4132800"/>
            <a:ext cx="8844120" cy="2496240"/>
            <a:chOff x="-5400" y="4132800"/>
            <a:chExt cx="8844120" cy="2496240"/>
          </a:xfrm>
        </p:grpSpPr>
        <p:sp>
          <p:nvSpPr>
            <p:cNvPr id="149" name=""/>
            <p:cNvSpPr/>
            <p:nvPr/>
          </p:nvSpPr>
          <p:spPr>
            <a:xfrm>
              <a:off x="749880" y="4736520"/>
              <a:ext cx="8088840" cy="18925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13600">
              <a:off x="3240" y="457056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ption Strate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280" y="1776240"/>
            <a:ext cx="883944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Results of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ing a Cal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ing a Pu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llish Call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rish Put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lling a Stradd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lling a Butterfly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0880" y="1905120"/>
            <a:ext cx="4038480" cy="3912840"/>
            <a:chOff x="380880" y="1905120"/>
            <a:chExt cx="4038480" cy="3912840"/>
          </a:xfrm>
        </p:grpSpPr>
        <p:grpSp>
          <p:nvGrpSpPr>
            <p:cNvPr id="157" name=""/>
            <p:cNvGrpSpPr/>
            <p:nvPr/>
          </p:nvGrpSpPr>
          <p:grpSpPr>
            <a:xfrm>
              <a:off x="380880" y="1905120"/>
              <a:ext cx="4038480" cy="3912840"/>
              <a:chOff x="380880" y="1905120"/>
              <a:chExt cx="4038480" cy="39128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3040" y="1905120"/>
                <a:ext cx="0" cy="39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3040" y="3974040"/>
                <a:ext cx="36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24840" y="3986280"/>
                <a:ext cx="794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96760" y="3938040"/>
                <a:ext cx="601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880" y="3350520"/>
                <a:ext cx="1753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134440" y="3350520"/>
                <a:ext cx="1403640" cy="1623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27600" y="3886560"/>
                <a:ext cx="0" cy="7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33520" y="2194560"/>
              <a:ext cx="10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4341600" cy="2697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Writing a Call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10080" y="191448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34120" y="7086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24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Writing a Pu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5800" y="2133720"/>
            <a:ext cx="3429000" cy="3276360"/>
            <a:chOff x="685800" y="2133720"/>
            <a:chExt cx="3429000" cy="3276360"/>
          </a:xfrm>
        </p:grpSpPr>
        <p:sp>
          <p:nvSpPr>
            <p:cNvPr id="172" name=""/>
            <p:cNvSpPr/>
            <p:nvPr/>
          </p:nvSpPr>
          <p:spPr>
            <a:xfrm>
              <a:off x="685800" y="213372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876840"/>
              <a:ext cx="31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5120" y="2370240"/>
              <a:ext cx="1417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5480" y="3886200"/>
              <a:ext cx="67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3320" y="3933720"/>
              <a:ext cx="42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5800" y="3044520"/>
              <a:ext cx="1481040" cy="167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84480" y="3044880"/>
              <a:ext cx="1098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60720" y="38005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341600" cy="26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42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8b20"/>
                </a:solidFill>
                <a:latin typeface="Lucida Grande"/>
              </a:rPr>
              <a:t>MO MONEY – Bullish Call Spread </a:t>
            </a:r>
            <a:endParaRPr b="1" lang="en-US" sz="4000" spc="-1" strike="noStrike">
              <a:solidFill>
                <a:srgbClr val="2f8b20"/>
              </a:solidFill>
              <a:latin typeface="Lucida Grande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1240" y="1905120"/>
            <a:ext cx="3809520" cy="3352680"/>
            <a:chOff x="381240" y="1905120"/>
            <a:chExt cx="3809520" cy="3352680"/>
          </a:xfrm>
        </p:grpSpPr>
        <p:sp>
          <p:nvSpPr>
            <p:cNvPr id="185" name=""/>
            <p:cNvSpPr/>
            <p:nvPr/>
          </p:nvSpPr>
          <p:spPr>
            <a:xfrm>
              <a:off x="392040" y="19051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040" y="3581280"/>
              <a:ext cx="373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09280" y="3511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26160" y="3511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33240" y="3553560"/>
              <a:ext cx="53928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4840" y="3553560"/>
              <a:ext cx="1068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240" y="194724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2880" y="3022560"/>
              <a:ext cx="40788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09280" y="2743200"/>
              <a:ext cx="1316880" cy="167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09280" y="2044080"/>
              <a:ext cx="2194560" cy="279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2040" y="4838400"/>
              <a:ext cx="1316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92040" y="4419360"/>
              <a:ext cx="1316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38760" y="2754720"/>
              <a:ext cx="878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2040" y="316224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26160" y="3162240"/>
              <a:ext cx="877680" cy="111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65040" y="5373720"/>
            <a:ext cx="3063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33920" y="4086360"/>
            <a:ext cx="443376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1008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24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8b20"/>
                </a:solidFill>
                <a:latin typeface="Lucida Grande"/>
              </a:rPr>
              <a:t>MO MONEY – Bearish Put Spread </a:t>
            </a:r>
            <a:endParaRPr b="1" lang="en-US" sz="40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05" name=""/>
          <p:cNvSpPr/>
          <p:nvPr/>
        </p:nvSpPr>
        <p:spPr>
          <a:xfrm>
            <a:off x="365040" y="5373720"/>
            <a:ext cx="3063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1752480"/>
            <a:ext cx="4603680" cy="3428640"/>
            <a:chOff x="0" y="1752480"/>
            <a:chExt cx="4603680" cy="3428640"/>
          </a:xfrm>
        </p:grpSpPr>
        <p:sp>
          <p:nvSpPr>
            <p:cNvPr id="207" name=""/>
            <p:cNvSpPr/>
            <p:nvPr/>
          </p:nvSpPr>
          <p:spPr>
            <a:xfrm>
              <a:off x="0" y="1752480"/>
              <a:ext cx="324108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6120" y="2188800"/>
              <a:ext cx="0" cy="29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120" y="3684960"/>
              <a:ext cx="40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806840" y="3622320"/>
              <a:ext cx="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47200" y="3622320"/>
              <a:ext cx="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1800" y="36604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2160" y="36604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4240" y="222660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83480" y="36604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680" y="2936880"/>
              <a:ext cx="144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4400" y="2936880"/>
              <a:ext cx="1440360" cy="149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54760" y="4433400"/>
              <a:ext cx="1020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916200" y="2376000"/>
              <a:ext cx="2340720" cy="243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7280" y="4807440"/>
              <a:ext cx="1020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5840" y="3310920"/>
              <a:ext cx="1440360" cy="1496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6560" y="3310920"/>
              <a:ext cx="2460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4086360"/>
            <a:ext cx="434160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10080" y="201924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25780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242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Sell Straddle 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27" name=""/>
          <p:cNvSpPr/>
          <p:nvPr/>
        </p:nvSpPr>
        <p:spPr>
          <a:xfrm>
            <a:off x="365040" y="537372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828800"/>
            <a:ext cx="4138200" cy="3048120"/>
            <a:chOff x="304920" y="1828800"/>
            <a:chExt cx="4138200" cy="3048120"/>
          </a:xfrm>
        </p:grpSpPr>
        <p:sp>
          <p:nvSpPr>
            <p:cNvPr id="229" name=""/>
            <p:cNvSpPr/>
            <p:nvPr/>
          </p:nvSpPr>
          <p:spPr>
            <a:xfrm>
              <a:off x="317520" y="18288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7520" y="335268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186696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79000" y="33591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389320" y="3289320"/>
              <a:ext cx="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4640" y="335916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12480" y="2971800"/>
              <a:ext cx="2073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58800" y="2971800"/>
              <a:ext cx="17272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86080" y="2971800"/>
              <a:ext cx="172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385720" y="2971800"/>
              <a:ext cx="17254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04920" y="2463480"/>
              <a:ext cx="2081160" cy="2260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361960" y="2463480"/>
              <a:ext cx="2081160" cy="2260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433760" cy="2752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4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Sell Butterfly 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063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9760" y="4114800"/>
            <a:ext cx="4341960" cy="269568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52280" y="1828800"/>
            <a:ext cx="4214160" cy="3048120"/>
            <a:chOff x="152280" y="1828800"/>
            <a:chExt cx="4214160" cy="3048120"/>
          </a:xfrm>
        </p:grpSpPr>
        <p:sp>
          <p:nvSpPr>
            <p:cNvPr id="248" name=""/>
            <p:cNvSpPr/>
            <p:nvPr/>
          </p:nvSpPr>
          <p:spPr>
            <a:xfrm flipV="1">
              <a:off x="1142640" y="32767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00040" y="32767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640" y="327672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99880" y="327672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880" y="18288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880" y="335304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280" y="186696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26360" y="33591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236320" y="3288960"/>
              <a:ext cx="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2000" y="335916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59840" y="2971800"/>
              <a:ext cx="2073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06160" y="2971800"/>
              <a:ext cx="17272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33440" y="2971800"/>
              <a:ext cx="172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233080" y="2971800"/>
              <a:ext cx="17254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66320" y="403884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152280" y="2971800"/>
              <a:ext cx="96336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280" y="41148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200040" y="2819520"/>
              <a:ext cx="1143000" cy="1295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233080" y="2057400"/>
              <a:ext cx="990360" cy="198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76040" y="403884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23440" y="403884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090440" y="2057400"/>
              <a:ext cx="1143000" cy="198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410080" y="71629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242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</a:t>
            </a:r>
            <a:br>
              <a:rPr sz="4400"/>
            </a:b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A Simulation-Based Test</a:t>
            </a:r>
            <a:br>
              <a:rPr sz="4400"/>
            </a:b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of Black-Schol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epared by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eg Goodm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rijesh Gulat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ike Keslosk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agesh Thuk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14800" y="7315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onclus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17400" y="1893960"/>
            <a:ext cx="7917120" cy="4354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00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Overview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el Mechani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ndom Wal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ption Macr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ding Strategy Calcul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iew of Various Trading Strateg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4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535120" cy="2735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- INTRODUCT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64796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OD!!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THINK ALL THIS FINANCE THEORY IS WACC!!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KNOW HOW TO MAKE THE EASY MONE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523880"/>
            <a:ext cx="4724280" cy="2210040"/>
          </a:xfrm>
          <a:prstGeom prst="wedgeRectCallout">
            <a:avLst>
              <a:gd name="adj1" fmla="val -91597"/>
              <a:gd name="adj2" fmla="val 30819"/>
            </a:avLst>
          </a:prstGeom>
          <a:noFill/>
          <a:ln w="57240">
            <a:solidFill>
              <a:srgbClr val="7ab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192400" cy="264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4876920"/>
            <a:ext cx="4191120" cy="1523880"/>
          </a:xfrm>
          <a:prstGeom prst="wedgeRectCallout">
            <a:avLst>
              <a:gd name="adj1" fmla="val 92009"/>
              <a:gd name="adj2" fmla="val -30625"/>
            </a:avLst>
          </a:prstGeom>
          <a:noFill/>
          <a:ln w="57240">
            <a:solidFill>
              <a:srgbClr val="7ab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87692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IC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ETS USE EUROPEAN OPTIONS AND BECOME AMERICA’s NEXT TOP MODE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08296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21040" cy="24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81280" y="1828800"/>
            <a:ext cx="4419720" cy="1828800"/>
          </a:xfrm>
          <a:prstGeom prst="wedgeRectCallout">
            <a:avLst>
              <a:gd name="adj1" fmla="val -93101"/>
              <a:gd name="adj2" fmla="val 20314"/>
            </a:avLst>
          </a:prstGeom>
          <a:solidFill>
            <a:srgbClr val="7aba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Europea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qualify Us from Americ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Top Mode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just go for Europe’s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ode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181480" y="71629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4495680"/>
            <a:ext cx="3809880" cy="1828800"/>
          </a:xfrm>
          <a:prstGeom prst="cloudCallout">
            <a:avLst>
              <a:gd name="adj1" fmla="val 105750"/>
              <a:gd name="adj2" fmla="val -30032"/>
            </a:avLst>
          </a:prstGeom>
          <a:solidFill>
            <a:srgbClr val="7aba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nder if thi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reall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24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del Input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4419720"/>
            <a:ext cx="53352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05240" y="2666880"/>
            <a:ext cx="87624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Random Walk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880" y="2405160"/>
            <a:ext cx="7678800" cy="42242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52280" y="1600200"/>
            <a:ext cx="2667240" cy="3505320"/>
            <a:chOff x="152280" y="1600200"/>
            <a:chExt cx="2667240" cy="3505320"/>
          </a:xfrm>
        </p:grpSpPr>
        <p:sp>
          <p:nvSpPr>
            <p:cNvPr id="133" name=""/>
            <p:cNvSpPr/>
            <p:nvPr/>
          </p:nvSpPr>
          <p:spPr>
            <a:xfrm>
              <a:off x="152280" y="16002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dom Wa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981080"/>
              <a:ext cx="38124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0720" y="2514600"/>
              <a:ext cx="1600200" cy="25909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Random Walk Result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76200" y="2133720"/>
            <a:ext cx="6572520" cy="407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7086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24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Option Calculat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85374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581280" y="1600200"/>
            <a:ext cx="5181840" cy="3200400"/>
            <a:chOff x="3581280" y="1600200"/>
            <a:chExt cx="5181840" cy="3200400"/>
          </a:xfrm>
        </p:grpSpPr>
        <p:sp>
          <p:nvSpPr>
            <p:cNvPr id="142" name=""/>
            <p:cNvSpPr/>
            <p:nvPr/>
          </p:nvSpPr>
          <p:spPr>
            <a:xfrm>
              <a:off x="3581280" y="1947960"/>
              <a:ext cx="5181840" cy="28526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1600200"/>
              <a:ext cx="30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on Calcul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8:01:51Z</dcterms:created>
  <dc:creator>Gregory Goodman</dc:creator>
  <dc:description/>
  <dc:language>en-US</dc:language>
  <cp:lastModifiedBy>Michael Keslosky</cp:lastModifiedBy>
  <dcterms:modified xsi:type="dcterms:W3CDTF">2006-04-24T17:21:13Z</dcterms:modified>
  <cp:revision>24</cp:revision>
  <dc:subject/>
  <dc:title>MO MONEY</dc:title>
</cp:coreProperties>
</file>